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BB3-DEDB-4DD0-92E5-419BCBDF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D8F-B651-48CB-9238-FA5E21A6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64F-5C92-406C-8888-C7FB3B3A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8B8-F47F-4153-A02C-4110557E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8F2-F5EB-4A35-B7CA-277A6DC7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B95-3A1D-4094-8AE3-34F8A881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ABD-D22B-44E7-A844-C6DBBDAE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AE5-8B1F-4FF3-928D-415FFF74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28D-DD97-4C23-A126-135B4A8C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5D1-4B24-4EC6-93A7-2F1BF5E4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AF6-453A-49FA-90D0-AA9223EC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450-A0A2-4E96-98D9-2D20A6F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946E-C244-456A-BA2D-DA449C83D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8680" y="1253880"/>
            <a:ext cx="843768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grating Web 2.0 Ap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o the Elementary Classro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7160" y="5735520"/>
            <a:ext cx="662292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yl Capozz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9800" y="3745080"/>
            <a:ext cx="66247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990000"/>
                </a:solidFill>
                <a:latin typeface="Arial"/>
              </a:rPr>
              <a:t>"If you build it and let them build it too,  they will come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uthentic Assessmen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reating student ePortfolios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Wik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reate an online web presence that can be edited by other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Clarkson's Museum Box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create online informational cubes for authentic assessmen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Not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simple online webpag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re Online Re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ources by category and subjec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Web 2.0 Guru Wik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y Contact Inf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ccapozzoli@caiu.org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y Effective Tech. Integration Work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233000"/>
            <a:ext cx="96710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rts 21st Century instructional pract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s 21st Century Skil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rts differentiated instructional strateg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gages diverse learn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powers students - student centered and self directed learning with assist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hances instructional tasks when used effectiv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s higher order thinking activ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ytime-Anywhere learning - 24/7 Access to tools, learning and productiv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laborative learning environment - simultaneous teacher and student learning and suc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sive learning community – parents, administration, pe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ow Do Students Lear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440" y="1644480"/>
            <a:ext cx="9671040" cy="54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ddressing student learning style prefere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earning Style Invent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Inventory 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Inventory 2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Inventory 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earning Readiness - Preassessmen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Thatqui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Mystudiy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60" y="188640"/>
            <a:ext cx="997128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nnecting With Colleagu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3560" y="1536480"/>
            <a:ext cx="966924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in or Create Professional Learning Networks (PLN'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online classroom enviro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Classroom 2.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Netw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PAEducato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K-12 PA Educa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ePa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onnect globally with other educator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TWIC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earch for other educators from around the wor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GlobalSchoolNe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ollaborative global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" y="142920"/>
            <a:ext cx="99061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unicate &amp; Collaborate with Other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reate connections to communicate locally, nationally and globally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Magp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video conferencing with profession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Skyp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 connections with others on Sk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Scriblin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instant collaborative white bo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Google Doc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Virtual Office anytime/anywhe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480" y="47592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ading and Listening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4440" y="1774440"/>
            <a:ext cx="967104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nline resources for interactive reading and audio downloa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Storyline Onlin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books read by the Screen Actors Guil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ICD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International Children's Digital Librar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Lit2Go -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ee audio boo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Librivox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ree audio books and m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StoryNor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free online audio boo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Youtube Ed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educational vide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</a:rPr>
              <a:t>Project Gutenberg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</a:rPr>
              <a:t>Book Glutton</a:t>
            </a:r>
            <a:r>
              <a:rPr b="0" lang="en-US" sz="2900" spc="-1" strike="noStrike" u="sng">
                <a:solidFill>
                  <a:srgbClr val="0000ff"/>
                </a:solidFill>
                <a:uFillTx/>
                <a:latin typeface="Arial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– download and upload epub books to read online, chat and annotate with others  </a:t>
            </a: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</a:rPr>
              <a:t>Epub Book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download and upload at Book Glutton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080" y="366840"/>
            <a:ext cx="10014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t Kids More Excited About Wri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1600" y="1730160"/>
            <a:ext cx="967104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riting tools to make it even more fun.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Mixboo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online interactive eboo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Blog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post topics and allow students/parents to respond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Read WriteThink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create book covers, cubes, trading cards and m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Kerpoo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free online story writing, and movie making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Persuade Sta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persuasive writing - create assignments and allow students to write and submi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iWri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writers resource for all types of wri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raphic Organize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 and sha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ClasstToo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create online games, graphic or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Mywebspir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online inspi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4440" y="301680"/>
            <a:ext cx="9671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ing or Podcasting to Respond to Conten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3560" y="2012760"/>
            <a:ext cx="966924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odcasts can be fun and engaging...Create class audio books and content reviews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Gabca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 an online class channel for student responses (Phone and web base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Podbea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 a free online podcast channel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uild and Improve Vocabulary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440" y="1492200"/>
            <a:ext cx="967104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ources to create and visualize vocabulary wo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Wordia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 visual diction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Word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ive word wall diagra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eyePlor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 vocabulary conne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Visuword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visual concept map of wo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Brainyfli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image and video definitions view and ad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